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4E1-BE1B-4717-AB5B-E0FF6DB7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3FE-9DEC-4970-8F1A-4F09377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980-FB6A-4DF2-96C7-A688649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EDA-5124-459D-A47B-989EF125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3CE-0E12-4285-B20C-D8665E5B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26D-DB25-4C68-871B-66F86E6D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BA4-CFC5-46EB-8E94-28101FB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D07-DDE5-413F-92BD-15F2C1B2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6BC-3966-49F0-8326-AE8FDA6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3F9-77EB-473A-A458-65B2EDA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2EE-4C4A-4336-B4F6-B33422D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B5B-643B-4AC0-966E-70B140B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6036-77E2-4805-A401-5DB7657A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Jo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 Cheok Fe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ong Shao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ng Jia W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an 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3352680"/>
            <a:ext cx="2666880" cy="2590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What would you call Superman if he lost all his pow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 What do you call a man with a bus on his hea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What gets wet the more you dr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w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) Why did the chicken cross the road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) Why did the turtle cross the roa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the Shell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) What kind of keys do kids like to carr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-k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) I have 10 legs, 20 arms and 54 feet. What am I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)  Which room has no door, no windows, no floor and no roof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h-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) What gets bigger the more you take awa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) What is bigger when it is upside dow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'6'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houting out the answer or the question will be ski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be chosen at random by Ryan and Cheok F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joke is answered CORRECTLY, the participant will get a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ing harder questions will get you a better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) What do you put in a barrel to make it light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) What starts with a 'P', ends with an 'E' and has a million letters in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) Where was the declaration of independence sign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What question can you never answer yes t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asleep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What do you call a man who shaves 15 times a da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r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 When a boy falls into the water, what is the first thing that he do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Why do doctors wear masks when operat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f they made a mistake, no one will know who di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 What is big, red and eats rock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red rock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What breaks when you say 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 What are two things you cannot have for breakfas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 and d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0:25:12Z</dcterms:created>
  <dc:creator>Rosyth School</dc:creator>
  <dc:description/>
  <dc:language>en-US</dc:language>
  <cp:lastModifiedBy>Rosyth School</cp:lastModifiedBy>
  <dcterms:modified xsi:type="dcterms:W3CDTF">2011-10-25T04:13:38Z</dcterms:modified>
  <cp:revision>4</cp:revision>
  <dc:subject/>
  <dc:title>Q&amp;A Jokes!</dc:title>
</cp:coreProperties>
</file>